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797-A313-4565-899F-10C4ADA5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19C2-ED27-4A2E-A79A-DF06BD96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3514-2A0E-41B4-8922-A726B876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2A3-8C30-4BA4-833A-95259A96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A8F8-9BD9-4DAB-A30E-7A663C86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B42D-F3AF-487E-960D-474561F7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E78-C84B-44B4-BE83-4D69A950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5178-8B85-422A-A3AF-9137D4F8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E7F-41AE-4540-897A-CF522E80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940-D9B8-4303-887F-AB6C977C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2B53-4555-46E3-B0FC-83A2FB64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1D1-B521-45A7-9E65-DA1BE909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41D1-93DC-4349-A6A6-9E8362A8B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960" y="1522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520" y="5851440"/>
            <a:ext cx="80010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ahoma"/>
              </a:rPr>
              <a:t>ТАЙНАТА НА ОКУЛТИЗ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7960" y="1522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5851440"/>
            <a:ext cx="80010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ahoma"/>
              </a:rPr>
              <a:t>ВОЙНИЦИТЕ НА ТЪМНИНА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natkar" descr=""/>
          <p:cNvPicPr/>
          <p:nvPr/>
        </p:nvPicPr>
        <p:blipFill>
          <a:blip r:embed="rId1"/>
          <a:stretch/>
        </p:blipFill>
        <p:spPr>
          <a:xfrm>
            <a:off x="743040" y="239760"/>
            <a:ext cx="7657920" cy="63770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039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052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ai4_jpg" descr=""/>
          <p:cNvPicPr/>
          <p:nvPr/>
        </p:nvPicPr>
        <p:blipFill>
          <a:blip r:embed="rId1"/>
          <a:stretch/>
        </p:blipFill>
        <p:spPr>
          <a:xfrm>
            <a:off x="990720" y="566640"/>
            <a:ext cx="7086600" cy="5662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053A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F053" descr=""/>
          <p:cNvPicPr/>
          <p:nvPr/>
        </p:nvPicPr>
        <p:blipFill>
          <a:blip r:embed="rId1"/>
          <a:stretch/>
        </p:blipFill>
        <p:spPr>
          <a:xfrm>
            <a:off x="506520" y="379440"/>
            <a:ext cx="8129520" cy="60976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007A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007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4:42:03Z</dcterms:created>
  <dc:creator>cps</dc:creator>
  <dc:description/>
  <dc:language>en-US</dc:language>
  <cp:lastModifiedBy>Theodore N. Levterov</cp:lastModifiedBy>
  <dcterms:modified xsi:type="dcterms:W3CDTF">2005-05-13T08:19:07Z</dcterms:modified>
  <cp:revision>11</cp:revision>
  <dc:subject/>
  <dc:title>PowerPoint Presentation</dc:title>
</cp:coreProperties>
</file>